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8CC-8BEB-49DC-99CD-B02C589B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60A-7438-4CA1-A3DF-D10F54F0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A00-A5DC-4135-896F-762CE055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3852-0510-479D-9252-3520A857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614-E45E-428F-8C53-9BF8AB33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045-3CB5-4FCC-A956-02A4ABA1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A34-7219-4705-9900-E822CEE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DC8-AB7E-495A-800E-D654298A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BAC-FD39-49A7-A7C6-E0275013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283C-A1D6-457A-B7B7-652E83E8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24E-499B-4FDB-8776-6F56B88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905-EB26-4F48-8AF6-007D0C9A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2DFD-7C03-4B42-A987-8311591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EDC1-7904-449E-AD89-9BF6447D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BB2-48D3-44CF-8740-CBA27A74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0E3-D707-446F-AF81-9765863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926-ADD7-4886-B787-B9E875C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14D7-57DA-4B5B-9278-46E0D0D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DDAF-1D93-414D-9F4D-C6626A6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D37F-7DC2-4596-B71E-E3B6414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534-2F99-4BF4-AA58-9D1A1810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CF7-7551-4BAD-B960-FC9D7D2E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A49-0D09-4771-88C1-6FFB46C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D5A-C8F8-45D7-809A-E1D99798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F09-38A9-4A65-8AEB-129F123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6A6-1938-40AB-BFB8-7A68842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677-30CC-49F1-8C71-9980E76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CF8-04F7-42BF-9A70-F2990D65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E18-955C-4000-B998-7459E19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426-9185-46E5-909A-E733756FA834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6713-4FF8-426F-B1E2-6A051AB0F0B1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spaces Unité 6 p. 19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Allons-y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1. Nous avons mangé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2. Papa a acheté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3. J’ai pri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4. Vous avez essayé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5. Mes parents ont célébr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6. Ils ont fait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7. Ma soeur a b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8. Nous avons eu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1. Tu as écouté mon C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écouté ton C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2. Mathieu a fait ses devoirs?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il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fait ses devoi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3. Elles ont couru dans le parc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elle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ont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couru ……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4. Tu as parlé aux prof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parlé aux prof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5. Yassim a appris ….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 il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appris …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6. Marie et Lise  ont  été  ……..?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elle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ont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été ………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7. Vous  avez emmené …….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nou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von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emmené ……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8. Tu as eu  …..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eu ……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1:41:48Z</dcterms:created>
  <dc:creator/>
  <dc:description/>
  <dc:language>en-US</dc:language>
  <cp:lastModifiedBy>Viviane Grebert</cp:lastModifiedBy>
  <cp:lastPrinted>2009-04-22T19:24:48Z</cp:lastPrinted>
  <dcterms:modified xsi:type="dcterms:W3CDTF">2011-11-02T21:55:2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